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B7E-AF0C-4A31-954B-32A68ED8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73E-5498-4D16-84A8-D8E13256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15D8-BCEB-4E37-A598-32723D29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74F-4088-440F-88A0-9187F3B4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119-BDC9-4142-84E3-156A157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214-609C-43AF-96C0-4CC7373F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673-8E9E-4653-8A24-0B2D41DD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472-241E-4B43-BE9C-3406DF55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9BC-F312-420C-99EC-06B33503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AAC-225B-471F-9E1D-8F83F4A4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B47-5588-4951-9EE0-808C9277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21F-A8D4-402B-98A6-4DAE636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4D17-538C-4006-BD21-7B821ACB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981080"/>
            <a:ext cx="838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brary of Function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ecewise-define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04920" y="76320"/>
            <a:ext cx="6629400" cy="3095640"/>
            <a:chOff x="304920" y="76320"/>
            <a:chExt cx="6629400" cy="30956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3276720" y="76320"/>
              <a:ext cx="365760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04920" y="609480"/>
              <a:ext cx="28954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9. This is th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__________________________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152280"/>
            <a:ext cx="8686800" cy="3810240"/>
            <a:chOff x="228600" y="152280"/>
            <a:chExt cx="8686800" cy="3810240"/>
          </a:xfrm>
        </p:grpSpPr>
        <p:sp>
          <p:nvSpPr>
            <p:cNvPr id="84" name=""/>
            <p:cNvSpPr/>
            <p:nvPr/>
          </p:nvSpPr>
          <p:spPr>
            <a:xfrm>
              <a:off x="228600" y="152280"/>
              <a:ext cx="86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. This is the ____________________ ____________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4952880" y="457200"/>
              <a:ext cx="2556000" cy="3505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638360" y="457200"/>
              <a:ext cx="2933640" cy="25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228600" y="457200"/>
              <a:ext cx="20574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28600" y="152280"/>
            <a:ext cx="5638680" cy="4038480"/>
            <a:chOff x="228600" y="152280"/>
            <a:chExt cx="5638680" cy="40384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28600" y="514080"/>
              <a:ext cx="5638680" cy="1524960"/>
            </a:xfrm>
            <a:prstGeom prst="rect">
              <a:avLst/>
            </a:prstGeom>
            <a:ln w="38160">
              <a:solidFill>
                <a:srgbClr val="333399"/>
              </a:solidFill>
              <a:miter/>
            </a:ln>
          </p:spPr>
        </p:pic>
        <p:sp>
          <p:nvSpPr>
            <p:cNvPr id="44" name=""/>
            <p:cNvSpPr/>
            <p:nvPr/>
          </p:nvSpPr>
          <p:spPr>
            <a:xfrm>
              <a:off x="228600" y="152280"/>
              <a:ext cx="563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. This is the ____________________________________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1613520" y="2116800"/>
              <a:ext cx="2967480" cy="207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28600" y="152280"/>
            <a:ext cx="5715000" cy="4190760"/>
            <a:chOff x="228600" y="152280"/>
            <a:chExt cx="5715000" cy="41907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581840" y="2104920"/>
              <a:ext cx="2656800" cy="22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28600" y="580680"/>
              <a:ext cx="5702400" cy="1470600"/>
            </a:xfrm>
            <a:prstGeom prst="rect">
              <a:avLst/>
            </a:prstGeom>
            <a:ln w="38160">
              <a:solidFill>
                <a:srgbClr val="333399"/>
              </a:solidFill>
              <a:miter/>
            </a:ln>
          </p:spPr>
        </p:pic>
        <p:sp>
          <p:nvSpPr>
            <p:cNvPr id="49" name=""/>
            <p:cNvSpPr/>
            <p:nvPr/>
          </p:nvSpPr>
          <p:spPr>
            <a:xfrm>
              <a:off x="228600" y="152280"/>
              <a:ext cx="571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2. This is the ___________________________________________ 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152280"/>
            <a:ext cx="6172200" cy="4038480"/>
            <a:chOff x="228600" y="152280"/>
            <a:chExt cx="6172200" cy="403848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531000"/>
              <a:ext cx="6158520" cy="1574280"/>
            </a:xfrm>
            <a:prstGeom prst="rect">
              <a:avLst/>
            </a:prstGeom>
            <a:ln w="38160">
              <a:solidFill>
                <a:srgbClr val="333399"/>
              </a:solidFill>
              <a:miter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365480" y="2377800"/>
              <a:ext cx="357336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28600" y="152280"/>
              <a:ext cx="617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3. This is the ________________________________________________ 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28600" y="152280"/>
            <a:ext cx="6019920" cy="2361240"/>
            <a:chOff x="228600" y="152280"/>
            <a:chExt cx="6019920" cy="2361240"/>
          </a:xfrm>
        </p:grpSpPr>
        <p:grpSp>
          <p:nvGrpSpPr>
            <p:cNvPr id="55" name=""/>
            <p:cNvGrpSpPr/>
            <p:nvPr/>
          </p:nvGrpSpPr>
          <p:grpSpPr>
            <a:xfrm>
              <a:off x="650880" y="400680"/>
              <a:ext cx="5264280" cy="2112840"/>
              <a:chOff x="650880" y="400680"/>
              <a:chExt cx="5264280" cy="211284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337400" y="483480"/>
                <a:ext cx="4065840" cy="2030040"/>
                <a:chOff x="1337400" y="483480"/>
                <a:chExt cx="4065840" cy="2030040"/>
              </a:xfrm>
            </p:grpSpPr>
            <p:pic>
              <p:nvPicPr>
                <p:cNvPr id="57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42880" y="565920"/>
                  <a:ext cx="3960360" cy="194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" name=""/>
                <p:cNvSpPr/>
                <p:nvPr/>
              </p:nvSpPr>
              <p:spPr>
                <a:xfrm>
                  <a:off x="1337400" y="483480"/>
                  <a:ext cx="1900800" cy="331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50880" y="400680"/>
                <a:ext cx="5264280" cy="524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"/>
            <p:cNvSpPr/>
            <p:nvPr/>
          </p:nvSpPr>
          <p:spPr>
            <a:xfrm>
              <a:off x="228600" y="152280"/>
              <a:ext cx="601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4. This is the _____________________________________________ 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28600" y="152280"/>
            <a:ext cx="8686800" cy="1752840"/>
            <a:chOff x="228600" y="152280"/>
            <a:chExt cx="8686800" cy="1752840"/>
          </a:xfrm>
        </p:grpSpPr>
        <p:grpSp>
          <p:nvGrpSpPr>
            <p:cNvPr id="62" name=""/>
            <p:cNvGrpSpPr/>
            <p:nvPr/>
          </p:nvGrpSpPr>
          <p:grpSpPr>
            <a:xfrm>
              <a:off x="1143000" y="457200"/>
              <a:ext cx="4114800" cy="1447920"/>
              <a:chOff x="1143000" y="457200"/>
              <a:chExt cx="4114800" cy="144792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1463040" y="616320"/>
                <a:ext cx="2925360" cy="1288800"/>
                <a:chOff x="1463040" y="616320"/>
                <a:chExt cx="2925360" cy="1288800"/>
              </a:xfrm>
            </p:grpSpPr>
            <p:pic>
              <p:nvPicPr>
                <p:cNvPr id="6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08400" y="616320"/>
                  <a:ext cx="2880000" cy="128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>
                  <a:off x="1463040" y="616320"/>
                  <a:ext cx="1874160" cy="22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457200"/>
                <a:ext cx="4114800" cy="47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"/>
            <p:cNvSpPr/>
            <p:nvPr/>
          </p:nvSpPr>
          <p:spPr>
            <a:xfrm>
              <a:off x="228600" y="152280"/>
              <a:ext cx="868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5. This is the ____________________ 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28600" y="142920"/>
            <a:ext cx="8686800" cy="1849320"/>
            <a:chOff x="228600" y="142920"/>
            <a:chExt cx="8686800" cy="18493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4629240" y="142920"/>
              <a:ext cx="2000160" cy="184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048120" y="457200"/>
              <a:ext cx="1617480" cy="6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28600" y="152280"/>
              <a:ext cx="86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6. This is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the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____________________ _____________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28600" y="152280"/>
            <a:ext cx="8686800" cy="2281320"/>
            <a:chOff x="228600" y="152280"/>
            <a:chExt cx="8686800" cy="22813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1219320" y="482760"/>
              <a:ext cx="1295280" cy="5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28600" y="152280"/>
              <a:ext cx="86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. This is the ________________________________ 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514600" y="457200"/>
              <a:ext cx="2981160" cy="197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8600" y="66600"/>
            <a:ext cx="8686800" cy="3210120"/>
            <a:chOff x="228600" y="66600"/>
            <a:chExt cx="8686800" cy="32101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3581280" y="66600"/>
              <a:ext cx="3276720" cy="321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086280" y="714240"/>
              <a:ext cx="1676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28600" y="152280"/>
              <a:ext cx="86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8. This is the ____________________ _________Function`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8-01-19T08:52:34Z</dcterms:modified>
  <cp:revision>8</cp:revision>
  <dc:subject/>
  <dc:title>Slide 1</dc:title>
</cp:coreProperties>
</file>